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6.gif" ContentType="image/gif"/>
  <Override PartName="/ppt/media/image2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4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10.gif" ContentType="image/gif"/>
  <Override PartName="/ppt/media/image13.png" ContentType="image/png"/>
  <Override PartName="/ppt/media/image30.gif" ContentType="image/gif"/>
  <Override PartName="/ppt/media/image14.jpeg" ContentType="image/jpeg"/>
  <Override PartName="/ppt/media/image7.jpeg" ContentType="image/jpeg"/>
  <Override PartName="/ppt/media/image31.gif" ContentType="image/gif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BA51-F4F9-456C-935D-E10A50488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E90E-DDC2-4AB0-90E2-290E01806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184B-C3AF-4FF5-9FED-09D41A476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54AD-3585-4433-AA7D-E67674926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1D36-1F46-4937-BA35-4DC60F532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D521-CF70-4831-9FAF-13D1C91A8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7287-E241-4F67-90F1-C8243A7D6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89CB-D467-4411-BBC7-4F107A31D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FE35-DBAD-44B9-AC52-52C4472AF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3557-C6F5-456E-8568-271411647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2679-F761-4561-B588-B8853DC5D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71E5-00C7-4851-A536-2FC15406B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710B-E899-4828-9F58-C924D01EB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37D6-CDC4-458C-ADDA-2F0FE4C3B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E7FF-E246-4326-968A-A5401CDDC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4EC6-094C-4023-BB8F-0CF6A99EF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B826-DD8A-4201-AF75-A5D77DC5C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1BB-8F6F-4C2F-9148-915DA9053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BE4B-F975-4924-A253-DA66EEAA6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AFE7-C33F-44CF-ADD1-1D2342887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80A-8D88-4E26-9934-205D4D034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F2F-F36E-4908-9A21-4E21F8921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990E-F90A-48E3-B7B3-D6C24AC5D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73F3-CD22-4D23-8FDD-AC8535477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BB4-E939-48BF-AB94-35DA06603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B91A-80DC-48F0-B2B6-E4661E60A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A272-F28A-4160-B7C2-904F05DB5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1BD6-4838-435E-9769-A7575BC3B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2319-BF5B-40E7-8A47-B304A6598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49E-FCA1-4F58-93DF-EEA8FB92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22F-755E-4EE0-AC09-DA6413A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B11-36EC-4CE3-993F-AEC60939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FB1-040C-4A5C-AE73-CCF28EF1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B48-FEB7-4707-91C6-6A4B5774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A87-E965-4051-81C5-D9F5756B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ACF-5A81-40BE-855D-035743C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6AD-1FE6-46CB-9BE1-8ABC991E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0B6-5989-4787-8192-33229DA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F06-DD7E-496A-96EC-B122696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011-3A63-4053-89EC-3303606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FB7-969D-4C87-9C0C-1E56168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B10B-247C-4A6A-BE55-2342C3C7D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animation.dinamobomb.net/" TargetMode="External"/><Relationship Id="rId3" Type="http://schemas.openxmlformats.org/officeDocument/2006/relationships/image" Target="../media/image29.gif"/><Relationship Id="rId4" Type="http://schemas.openxmlformats.org/officeDocument/2006/relationships/hyperlink" Target="http://animation.dinamobomb.net/" TargetMode="External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ptimal-trajectory.com/wp-content/uploads/2010/10/voting-booth.png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://animation.dinamobomb.net/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5"/>
          <p:cNvSpPr/>
          <p:nvPr/>
        </p:nvSpPr>
        <p:spPr>
          <a:xfrm>
            <a:off x="1295280" y="3808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6934320" y="457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7162920" y="838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LL people obey the l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7086600" y="2133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t has documents that state laws &amp;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7010280" y="3581280"/>
            <a:ext cx="198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overnment officials cannot take advantage of the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7010280" y="51055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includes a system of checks &amp; bal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14479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3"/>
          <p:cNvSpPr/>
          <p:nvPr/>
        </p:nvSpPr>
        <p:spPr>
          <a:xfrm>
            <a:off x="6934320" y="457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7162920" y="838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LL people obey the l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7086600" y="2133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t has documents that state laws &amp;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7010280" y="3581280"/>
            <a:ext cx="198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overnment officials cannot take advantage of the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9"/>
          <p:cNvSpPr/>
          <p:nvPr/>
        </p:nvSpPr>
        <p:spPr>
          <a:xfrm>
            <a:off x="7010280" y="51055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includes a system of checks &amp; bal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685800" y="62485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www.crazywebsite.com/Website-Clipart-Pictures-Videos/American-Patriotic/animated-american-flag_200x205.gif"/>
          <p:cNvPicPr/>
          <p:nvPr/>
        </p:nvPicPr>
        <p:blipFill>
          <a:blip r:embed="rId1"/>
          <a:stretch/>
        </p:blipFill>
        <p:spPr>
          <a:xfrm>
            <a:off x="304920" y="-533520"/>
            <a:ext cx="8547120" cy="71992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752480" y="4038480"/>
            <a:ext cx="6705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resen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mocracy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stitu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ttp://www.amazing-animations.com/animations/flags7.gif"/>
          <p:cNvPicPr/>
          <p:nvPr/>
        </p:nvPicPr>
        <p:blipFill>
          <a:blip r:embed="rId1"/>
          <a:stretch/>
        </p:blipFill>
        <p:spPr>
          <a:xfrm>
            <a:off x="228600" y="380880"/>
            <a:ext cx="9124920" cy="52419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0" y="57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onstitutional Mo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greece.mrdonn.org/greece06.gif"/>
          <p:cNvPicPr/>
          <p:nvPr/>
        </p:nvPicPr>
        <p:blipFill>
          <a:blip r:embed="rId1"/>
          <a:stretch/>
        </p:blipFill>
        <p:spPr>
          <a:xfrm>
            <a:off x="63360" y="-136440"/>
            <a:ext cx="9031320" cy="64609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152280" y="57913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Direct Democra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5"/>
          <p:cNvSpPr/>
          <p:nvPr/>
        </p:nvSpPr>
        <p:spPr>
          <a:xfrm>
            <a:off x="14479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6934320" y="457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7162920" y="838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LL people obey the l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7"/>
          <p:cNvSpPr/>
          <p:nvPr/>
        </p:nvSpPr>
        <p:spPr>
          <a:xfrm>
            <a:off x="7086600" y="2133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t has documents that state laws &amp;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8"/>
          <p:cNvSpPr/>
          <p:nvPr/>
        </p:nvSpPr>
        <p:spPr>
          <a:xfrm>
            <a:off x="7010280" y="3581280"/>
            <a:ext cx="198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overnment officials cannot take advantage of the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9"/>
          <p:cNvSpPr/>
          <p:nvPr/>
        </p:nvSpPr>
        <p:spPr>
          <a:xfrm>
            <a:off x="7010280" y="51055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includes a system of checks &amp; bal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0"/>
          <p:cNvSpPr/>
          <p:nvPr/>
        </p:nvSpPr>
        <p:spPr>
          <a:xfrm>
            <a:off x="685800" y="62485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1"/>
          <p:cNvSpPr/>
          <p:nvPr/>
        </p:nvSpPr>
        <p:spPr>
          <a:xfrm>
            <a:off x="152280" y="5257800"/>
            <a:ext cx="190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presentative Democracy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stitu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xample: U.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2209680" y="525780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stitutional Mon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3"/>
          <p:cNvSpPr/>
          <p:nvPr/>
        </p:nvSpPr>
        <p:spPr>
          <a:xfrm>
            <a:off x="4191120" y="52578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rect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cient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http://www.chowrangi.com/wp-content/uploads/2010/10/unlimited-corruption.jpg"/>
          <p:cNvPicPr/>
          <p:nvPr/>
        </p:nvPicPr>
        <p:blipFill>
          <a:blip r:embed="rId1"/>
          <a:stretch/>
        </p:blipFill>
        <p:spPr>
          <a:xfrm rot="20609400">
            <a:off x="-431640" y="-528480"/>
            <a:ext cx="4762440" cy="357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hemi.nyu.edu/cuaderno/politicalperformance2004/fascism/webphotos/fascism.jpg"/>
          <p:cNvPicPr/>
          <p:nvPr/>
        </p:nvPicPr>
        <p:blipFill>
          <a:blip r:embed="rId2"/>
          <a:stretch/>
        </p:blipFill>
        <p:spPr>
          <a:xfrm>
            <a:off x="0" y="3429000"/>
            <a:ext cx="4419720" cy="4108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my.opera.com/BringBaka/homes/albums/28008/thumbs/Nazi%20Fascism.gif_thumb.jpg"/>
          <p:cNvPicPr/>
          <p:nvPr/>
        </p:nvPicPr>
        <p:blipFill>
          <a:blip r:embed="rId3"/>
          <a:stretch/>
        </p:blipFill>
        <p:spPr>
          <a:xfrm>
            <a:off x="4648320" y="-1908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://library.thinkquest.org/07aug/00540/images/monarchism2.jpg"/>
          <p:cNvPicPr/>
          <p:nvPr/>
        </p:nvPicPr>
        <p:blipFill>
          <a:blip r:embed="rId4"/>
          <a:stretch/>
        </p:blipFill>
        <p:spPr>
          <a:xfrm>
            <a:off x="4419720" y="2819520"/>
            <a:ext cx="4724280" cy="3905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ttp://upload.wikimedia.org/wikipedia/commons/thumb/0/0f/Denmark_crown.jpg/300px-Denmark_crown.jpg"/>
          <p:cNvPicPr/>
          <p:nvPr/>
        </p:nvPicPr>
        <p:blipFill>
          <a:blip r:embed="rId5"/>
          <a:stretch/>
        </p:blipFill>
        <p:spPr>
          <a:xfrm>
            <a:off x="-299880" y="-903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4"/>
          <p:cNvSpPr/>
          <p:nvPr/>
        </p:nvSpPr>
        <p:spPr>
          <a:xfrm>
            <a:off x="6858000" y="38088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rlv.zcache.com/limited_government_poster-p228711595378188236trma_400.jpg"/>
          <p:cNvPicPr/>
          <p:nvPr/>
        </p:nvPicPr>
        <p:blipFill>
          <a:blip r:embed="rId1"/>
          <a:stretch/>
        </p:blipFill>
        <p:spPr>
          <a:xfrm>
            <a:off x="0" y="-533520"/>
            <a:ext cx="93726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http://www.history.stir.ac.uk/img/site-images/GustavKlutsisportrayalofthePolitbureauin1935.CopyrightVictoriaandAlbertmuseum.Licensorwww.sc.jpg"/>
          <p:cNvPicPr/>
          <p:nvPr/>
        </p:nvPicPr>
        <p:blipFill>
          <a:blip r:embed="rId1"/>
          <a:stretch/>
        </p:blipFill>
        <p:spPr>
          <a:xfrm>
            <a:off x="0" y="1981080"/>
            <a:ext cx="5334120" cy="5531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http://candobetter.org/files/dictator.jpg"/>
          <p:cNvPicPr/>
          <p:nvPr/>
        </p:nvPicPr>
        <p:blipFill>
          <a:blip r:embed="rId2"/>
          <a:stretch/>
        </p:blipFill>
        <p:spPr>
          <a:xfrm>
            <a:off x="0" y="0"/>
            <a:ext cx="4952880" cy="29718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http://www.examiner.com/images/blog/wysiwyg/image/mao(4).jpg"/>
          <p:cNvPicPr/>
          <p:nvPr/>
        </p:nvPicPr>
        <p:blipFill>
          <a:blip r:embed="rId3"/>
          <a:stretch/>
        </p:blipFill>
        <p:spPr>
          <a:xfrm>
            <a:off x="4952880" y="0"/>
            <a:ext cx="281952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http://www.theadmonition.com/wp-content/uploads/2009/04/castro.jpg"/>
          <p:cNvPicPr/>
          <p:nvPr/>
        </p:nvPicPr>
        <p:blipFill>
          <a:blip r:embed="rId4"/>
          <a:stretch/>
        </p:blipFill>
        <p:spPr>
          <a:xfrm>
            <a:off x="4876920" y="236232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http://www.topnews.in/files/adolf-hitler.jpg"/>
          <p:cNvPicPr/>
          <p:nvPr/>
        </p:nvPicPr>
        <p:blipFill>
          <a:blip r:embed="rId5"/>
          <a:stretch/>
        </p:blipFill>
        <p:spPr>
          <a:xfrm>
            <a:off x="7566120" y="0"/>
            <a:ext cx="1577880" cy="24382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304920" y="58672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ule by one or f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http://www.demsfightinwords.com/wordpress/wp-content/uploads/2010/10/find-out-if-someone-i-know-is-in-a-pris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0" y="3048120"/>
            <a:ext cx="7543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ttle or NO personal freedoms or righ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www.lawforwa.org/zbento/homepage/images/jury.jpg"/>
          <p:cNvPicPr/>
          <p:nvPr/>
        </p:nvPicPr>
        <p:blipFill>
          <a:blip r:embed="rId1"/>
          <a:stretch/>
        </p:blipFill>
        <p:spPr>
          <a:xfrm>
            <a:off x="1521000" y="563400"/>
            <a:ext cx="5946480" cy="59137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 rot="19628400">
            <a:off x="4332960" y="2784960"/>
            <a:ext cx="30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Ju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&quot;No&quot; Symbol 8"/>
          <p:cNvSpPr/>
          <p:nvPr/>
        </p:nvSpPr>
        <p:spPr>
          <a:xfrm>
            <a:off x="1219320" y="0"/>
            <a:ext cx="6933960" cy="6858000"/>
          </a:xfrm>
          <a:custGeom>
            <a:avLst/>
            <a:gdLst/>
            <a:ahLst/>
            <a:rect l="l" t="t" r="r" b="b"/>
            <a:pathLst>
              <a:path w="6934200" h="6858000">
                <a:moveTo>
                  <a:pt x="0" y="3429000"/>
                </a:moveTo>
                <a:cubicBezTo>
                  <a:pt x="0" y="1535216"/>
                  <a:pt x="1552274" y="0"/>
                  <a:pt x="3467100" y="0"/>
                </a:cubicBezTo>
                <a:cubicBezTo>
                  <a:pt x="5381926" y="0"/>
                  <a:pt x="6934200" y="1535216"/>
                  <a:pt x="6934200" y="3429000"/>
                </a:cubicBezTo>
                <a:cubicBezTo>
                  <a:pt x="6934200" y="5322784"/>
                  <a:pt x="5381926" y="6858000"/>
                  <a:pt x="3467100" y="6858000"/>
                </a:cubicBezTo>
                <a:cubicBezTo>
                  <a:pt x="1552274" y="6858000"/>
                  <a:pt x="0" y="5322784"/>
                  <a:pt x="0" y="3429000"/>
                </a:cubicBezTo>
                <a:close/>
                <a:moveTo>
                  <a:pt x="5614930" y="5001368"/>
                </a:moveTo>
                <a:cubicBezTo>
                  <a:pt x="6413558" y="3941305"/>
                  <a:pt x="6293799" y="2462411"/>
                  <a:pt x="5334686" y="1540663"/>
                </a:cubicBezTo>
                <a:cubicBezTo>
                  <a:pt x="4395964" y="638512"/>
                  <a:pt x="2932355" y="539822"/>
                  <a:pt x="1877757" y="1307566"/>
                </a:cubicBezTo>
                <a:lnTo>
                  <a:pt x="5614930" y="5001368"/>
                </a:lnTo>
                <a:close/>
                <a:moveTo>
                  <a:pt x="1319270" y="1856632"/>
                </a:moveTo>
                <a:cubicBezTo>
                  <a:pt x="520642" y="2916695"/>
                  <a:pt x="640401" y="4395589"/>
                  <a:pt x="1599514" y="5317337"/>
                </a:cubicBezTo>
                <a:cubicBezTo>
                  <a:pt x="2538236" y="6219488"/>
                  <a:pt x="4001845" y="6318178"/>
                  <a:pt x="5056443" y="5550434"/>
                </a:cubicBezTo>
                <a:lnTo>
                  <a:pt x="1319270" y="18566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 rot="2685000">
            <a:off x="1930680" y="3027600"/>
            <a:ext cx="55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NO trial by 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6858000" y="38088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5"/>
          <p:cNvSpPr/>
          <p:nvPr/>
        </p:nvSpPr>
        <p:spPr>
          <a:xfrm>
            <a:off x="7010280" y="838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le by one or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6"/>
          <p:cNvSpPr/>
          <p:nvPr/>
        </p:nvSpPr>
        <p:spPr>
          <a:xfrm>
            <a:off x="7010280" y="20574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 document guaranteeing freedoms or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7"/>
          <p:cNvSpPr/>
          <p:nvPr/>
        </p:nvSpPr>
        <p:spPr>
          <a:xfrm>
            <a:off x="7086600" y="3581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8"/>
          <p:cNvSpPr/>
          <p:nvPr/>
        </p:nvSpPr>
        <p:spPr>
          <a:xfrm>
            <a:off x="7048440" y="51260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rruption/no checks and bal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4"/>
          <p:cNvSpPr/>
          <p:nvPr/>
        </p:nvSpPr>
        <p:spPr>
          <a:xfrm>
            <a:off x="6858000" y="38088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5"/>
          <p:cNvSpPr/>
          <p:nvPr/>
        </p:nvSpPr>
        <p:spPr>
          <a:xfrm>
            <a:off x="7010280" y="838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le by one or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6"/>
          <p:cNvSpPr/>
          <p:nvPr/>
        </p:nvSpPr>
        <p:spPr>
          <a:xfrm>
            <a:off x="7010280" y="20574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uaranteeing freedom or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7"/>
          <p:cNvSpPr/>
          <p:nvPr/>
        </p:nvSpPr>
        <p:spPr>
          <a:xfrm>
            <a:off x="7086600" y="3581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8"/>
          <p:cNvSpPr/>
          <p:nvPr/>
        </p:nvSpPr>
        <p:spPr>
          <a:xfrm>
            <a:off x="7086600" y="51814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rruption/no checks &amp;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9"/>
          <p:cNvSpPr/>
          <p:nvPr/>
        </p:nvSpPr>
        <p:spPr>
          <a:xfrm>
            <a:off x="533520" y="62485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t1.gstatic.com/images?q=tbn:phsh5Dpby2h3zM:http://www.middle-east-online.com/pictures/big/_8565_king-fahd-20-1-2004.jpg&amp;t=1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61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www.gifs.net/Animation11/Geography_and_History/International_Flags/saudi_arabia.gif"/>
          <p:cNvPicPr/>
          <p:nvPr/>
        </p:nvPicPr>
        <p:blipFill>
          <a:blip r:embed="rId2"/>
          <a:stretch/>
        </p:blipFill>
        <p:spPr>
          <a:xfrm rot="19820400">
            <a:off x="-17280" y="468360"/>
            <a:ext cx="3865680" cy="28033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2286000" y="41148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bso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Content Placeholder 1" descr=""/>
          <p:cNvPicPr/>
          <p:nvPr/>
        </p:nvPicPr>
        <p:blipFill>
          <a:blip r:embed="rId1"/>
          <a:stretch/>
        </p:blipFill>
        <p:spPr>
          <a:xfrm>
            <a:off x="0" y="4680"/>
            <a:ext cx="9113760" cy="5511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 Military Animation _ dinamobomb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 Military Animation _ dinamobomb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0" y="5486400"/>
            <a:ext cx="3073320" cy="15764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6"/>
          <p:cNvSpPr/>
          <p:nvPr/>
        </p:nvSpPr>
        <p:spPr>
          <a:xfrm>
            <a:off x="4343400" y="66600"/>
            <a:ext cx="36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ictato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Content Placeholder 1" descr=""/>
          <p:cNvPicPr/>
          <p:nvPr/>
        </p:nvPicPr>
        <p:blipFill>
          <a:blip r:embed="rId1"/>
          <a:stretch/>
        </p:blipFill>
        <p:spPr>
          <a:xfrm>
            <a:off x="4157640" y="3238560"/>
            <a:ext cx="4524480" cy="3219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Flag_Cuba-anim.gif Waving Cuban Flag image by Alvor"/>
          <p:cNvPicPr/>
          <p:nvPr/>
        </p:nvPicPr>
        <p:blipFill>
          <a:blip r:embed="rId2"/>
          <a:stretch/>
        </p:blipFill>
        <p:spPr>
          <a:xfrm rot="21161400">
            <a:off x="903240" y="41040"/>
            <a:ext cx="5661000" cy="33382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0" y="44197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4"/>
          <p:cNvSpPr/>
          <p:nvPr/>
        </p:nvSpPr>
        <p:spPr>
          <a:xfrm>
            <a:off x="6858000" y="38088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5"/>
          <p:cNvSpPr/>
          <p:nvPr/>
        </p:nvSpPr>
        <p:spPr>
          <a:xfrm>
            <a:off x="7010280" y="838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le by one or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6"/>
          <p:cNvSpPr/>
          <p:nvPr/>
        </p:nvSpPr>
        <p:spPr>
          <a:xfrm>
            <a:off x="7010280" y="20574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 document guaranteeing freedom or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7"/>
          <p:cNvSpPr/>
          <p:nvPr/>
        </p:nvSpPr>
        <p:spPr>
          <a:xfrm>
            <a:off x="7086600" y="3581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8"/>
          <p:cNvSpPr/>
          <p:nvPr/>
        </p:nvSpPr>
        <p:spPr>
          <a:xfrm>
            <a:off x="6964200" y="50148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rruption/no checks &amp;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9"/>
          <p:cNvSpPr/>
          <p:nvPr/>
        </p:nvSpPr>
        <p:spPr>
          <a:xfrm>
            <a:off x="533520" y="62485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0"/>
          <p:cNvSpPr/>
          <p:nvPr/>
        </p:nvSpPr>
        <p:spPr>
          <a:xfrm>
            <a:off x="346680" y="525780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le by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1"/>
          <p:cNvSpPr/>
          <p:nvPr/>
        </p:nvSpPr>
        <p:spPr>
          <a:xfrm>
            <a:off x="2404080" y="525780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le by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2"/>
          <p:cNvSpPr/>
          <p:nvPr/>
        </p:nvSpPr>
        <p:spPr>
          <a:xfrm>
            <a:off x="4471560" y="52578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le by 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3"/>
          <p:cNvSpPr/>
          <p:nvPr/>
        </p:nvSpPr>
        <p:spPr>
          <a:xfrm>
            <a:off x="1522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bsolute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4"/>
          <p:cNvSpPr/>
          <p:nvPr/>
        </p:nvSpPr>
        <p:spPr>
          <a:xfrm>
            <a:off x="152280" y="6095880"/>
            <a:ext cx="192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</a:rPr>
              <a:t>Example: Saudi Arab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5"/>
          <p:cNvSpPr/>
          <p:nvPr/>
        </p:nvSpPr>
        <p:spPr>
          <a:xfrm>
            <a:off x="2298240" y="548640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c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6"/>
          <p:cNvSpPr/>
          <p:nvPr/>
        </p:nvSpPr>
        <p:spPr>
          <a:xfrm>
            <a:off x="2133720" y="601992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</a:rPr>
              <a:t>Example: Nazi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7"/>
          <p:cNvSpPr/>
          <p:nvPr/>
        </p:nvSpPr>
        <p:spPr>
          <a:xfrm>
            <a:off x="4366440" y="556272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mu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8"/>
          <p:cNvSpPr/>
          <p:nvPr/>
        </p:nvSpPr>
        <p:spPr>
          <a:xfrm>
            <a:off x="4268880" y="58752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uba &amp;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etc.usf.edu/clipart/2100/2114/crown_1_md.gif"/>
          <p:cNvPicPr/>
          <p:nvPr/>
        </p:nvPicPr>
        <p:blipFill>
          <a:blip r:embed="rId1"/>
          <a:stretch/>
        </p:blipFill>
        <p:spPr>
          <a:xfrm rot="20386800">
            <a:off x="248760" y="63000"/>
            <a:ext cx="3171960" cy="3333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optimal-trajectory.com/wp-content/uploads/2010/10/voting-booth-244x300.png">
            <a:hlinkClick r:id="rId2"/>
          </p:cNvPr>
          <p:cNvPicPr/>
          <p:nvPr/>
        </p:nvPicPr>
        <p:blipFill>
          <a:blip r:embed="rId3"/>
          <a:stretch/>
        </p:blipFill>
        <p:spPr>
          <a:xfrm rot="1316400">
            <a:off x="5427360" y="164880"/>
            <a:ext cx="3628800" cy="365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clipart.usscouts.org/library/BSA_Boy_Scout_Ranks/Eagle_Scout/birds_and_stuff/US_eagle_symbol_bw.gif"/>
          <p:cNvPicPr/>
          <p:nvPr/>
        </p:nvPicPr>
        <p:blipFill>
          <a:blip r:embed="rId4"/>
          <a:stretch/>
        </p:blipFill>
        <p:spPr>
          <a:xfrm>
            <a:off x="5943600" y="4343400"/>
            <a:ext cx="2971800" cy="226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www.scientificamerican.com/media/inline/0FE0A241-F024-A7A7-C0893926D4824AE9_1.jpg"/>
          <p:cNvPicPr/>
          <p:nvPr/>
        </p:nvPicPr>
        <p:blipFill>
          <a:blip r:embed="rId5"/>
          <a:stretch/>
        </p:blipFill>
        <p:spPr>
          <a:xfrm>
            <a:off x="228600" y="3581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 3d Clipart - Gifs Animation * dinamobomb 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28800" y="380880"/>
            <a:ext cx="563868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14479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5"/>
          <p:cNvSpPr/>
          <p:nvPr/>
        </p:nvSpPr>
        <p:spPr>
          <a:xfrm>
            <a:off x="14479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6934320" y="457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radicalparenting.com/wp-content/uploads/2008/03/laws-of-the-internet11.jpg"/>
          <p:cNvPicPr/>
          <p:nvPr/>
        </p:nvPicPr>
        <p:blipFill>
          <a:blip r:embed="rId1"/>
          <a:stretch/>
        </p:blipFill>
        <p:spPr>
          <a:xfrm>
            <a:off x="1219320" y="1200240"/>
            <a:ext cx="6781680" cy="5657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31680" y="430200"/>
            <a:ext cx="93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l people obey the la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princetonol.com/groups/iad/links/constitution.jpg"/>
          <p:cNvPicPr/>
          <p:nvPr/>
        </p:nvPicPr>
        <p:blipFill>
          <a:blip r:embed="rId1"/>
          <a:stretch/>
        </p:blipFill>
        <p:spPr>
          <a:xfrm>
            <a:off x="271440" y="1295280"/>
            <a:ext cx="8567640" cy="5672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440" y="968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 has documents that state laws and limit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italco.files.wordpress.com/2009/06/anti-government-corruption.jpg?w=449"/>
          <p:cNvPicPr/>
          <p:nvPr/>
        </p:nvPicPr>
        <p:blipFill>
          <a:blip r:embed="rId1"/>
          <a:stretch/>
        </p:blipFill>
        <p:spPr>
          <a:xfrm>
            <a:off x="403200" y="990720"/>
            <a:ext cx="8131320" cy="5867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0" y="30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vernment officials CANNOT take advantage of the citiz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 rot="2050800">
            <a:off x="1153800" y="3505680"/>
            <a:ext cx="67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NO corruption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blogs.iium.edu.my/ka_mokhtar/files/2009/08/checks__balances-in-the-us.gif"/>
          <p:cNvPicPr/>
          <p:nvPr/>
        </p:nvPicPr>
        <p:blipFill>
          <a:blip r:embed="rId1"/>
          <a:stretch/>
        </p:blipFill>
        <p:spPr>
          <a:xfrm>
            <a:off x="343080" y="838080"/>
            <a:ext cx="834372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ually includes a system of checks and bal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20:06:17Z</dcterms:created>
  <dc:creator>l0803233</dc:creator>
  <dc:description/>
  <dc:language>en-US</dc:language>
  <cp:lastModifiedBy>Ballard, Jo</cp:lastModifiedBy>
  <cp:lastPrinted>2016-10-04T14:17:15Z</cp:lastPrinted>
  <dcterms:modified xsi:type="dcterms:W3CDTF">2016-10-05T16:40:53Z</dcterms:modified>
  <cp:revision>40</cp:revision>
  <dc:subject/>
  <dc:title>Limited vs. Unlimited Government...what's the differenc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5A683389BD9434EA79E177973215473</vt:lpwstr>
  </property>
  <property fmtid="{D5CDD505-2E9C-101B-9397-08002B2CF9AE}" pid="3" name="Resource Type">
    <vt:lpwstr>;#Academic;#Pre AP;#</vt:lpwstr>
  </property>
</Properties>
</file>